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6C7-EB47-47D0-A027-0A414271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2E5-2488-42B7-8B1A-1B4FFEE6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27A-F918-48D0-96B7-4077864B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E8B-AB36-4FEA-8337-D3737D43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C99-9C81-4AA2-AC7B-83C18BD2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BD1-A0F4-46DD-820C-DF5F1AFC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666-E8F6-4F20-8852-6A238917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4E0-43F2-432A-9673-097D25FA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0E3-4AAA-4B24-97BC-4C9C4260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4A7-DCA6-4CB1-9108-D0F0A832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B58-C8BE-4DD5-8AE9-BE494017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3DB-0FCF-406C-B67F-01F77877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5B10-7579-40E6-816E-0C313E896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l6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2" name="bl7_1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43" name="bl8_1" descr=""/>
          <p:cNvPicPr/>
          <p:nvPr/>
        </p:nvPicPr>
        <p:blipFill>
          <a:blip r:embed="rId3"/>
          <a:stretch/>
        </p:blipFill>
        <p:spPr>
          <a:xfrm>
            <a:off x="609480" y="373536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4" name="bl9_1" descr=""/>
          <p:cNvPicPr/>
          <p:nvPr/>
        </p:nvPicPr>
        <p:blipFill>
          <a:blip r:embed="rId4"/>
          <a:stretch/>
        </p:blipFill>
        <p:spPr>
          <a:xfrm>
            <a:off x="4876920" y="373536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72840" y="243828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39920" y="243828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7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2840" y="571500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8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39920" y="571500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9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10_2" descr=""/>
          <p:cNvPicPr/>
          <p:nvPr/>
        </p:nvPicPr>
        <p:blipFill>
          <a:blip r:embed="rId1"/>
          <a:stretch/>
        </p:blipFill>
        <p:spPr>
          <a:xfrm>
            <a:off x="609480" y="45864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2840" y="24382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0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l11_1new" descr=""/>
          <p:cNvPicPr/>
          <p:nvPr/>
        </p:nvPicPr>
        <p:blipFill>
          <a:blip r:embed="rId2"/>
          <a:stretch/>
        </p:blipFill>
        <p:spPr>
          <a:xfrm>
            <a:off x="4952880" y="45864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30640" y="24382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1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l12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54" name="BL13_1withtube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7240" y="5715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2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6960" y="56386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3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l14withtube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560" y="23623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4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lx_2_17nov_alfa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16640" y="23623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5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y_2_17nov_beta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560" y="55627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6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5360" y="632448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f de nanotube echt op 2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17nov_links_1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5800" cy="2741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92960" y="56386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5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l17nov_2de_van_rechts_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56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7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l17nov_rechts_1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3064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8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19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71" name="bl20_1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5800" cy="2741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9520" y="55627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9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40320" y="54864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0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640080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f de nanotube echt op 1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l24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952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4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l23withtube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316280" y="2286000"/>
            <a:ext cx="106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3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33440" y="308916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e labjournaal All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io%2022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20600" y="5562720"/>
            <a:ext cx="123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22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33520" y="3657600"/>
            <a:ext cx="3655800" cy="2741760"/>
            <a:chOff x="533520" y="3657600"/>
            <a:chExt cx="3655800" cy="2741760"/>
          </a:xfrm>
        </p:grpSpPr>
        <p:pic>
          <p:nvPicPr>
            <p:cNvPr id="83" name="TM25_withtube" descr=""/>
            <p:cNvPicPr/>
            <p:nvPr/>
          </p:nvPicPr>
          <p:blipFill>
            <a:blip r:embed="rId1"/>
            <a:stretch/>
          </p:blipFill>
          <p:spPr>
            <a:xfrm>
              <a:off x="533520" y="365760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125880" y="5562720"/>
              <a:ext cx="942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M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TM24withtube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06960" y="2286000"/>
            <a:ext cx="94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M23withtube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97280" y="2362320"/>
            <a:ext cx="94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uckling_for_shortening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0:09:42Z</dcterms:created>
  <dc:creator>Dionne</dc:creator>
  <dc:description/>
  <dc:language>en-US</dc:language>
  <cp:lastModifiedBy>Dionne</cp:lastModifiedBy>
  <dcterms:modified xsi:type="dcterms:W3CDTF">2003-11-20T10:56:35Z</dcterms:modified>
  <cp:revision>13</cp:revision>
  <dc:subject/>
  <dc:title>PowerPoint Presentation</dc:title>
</cp:coreProperties>
</file>